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4BE4-C21A-46B0-B1E9-44671F96E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7FCC-2EEF-4A23-A496-C6ED2311BA88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A7E2-85A2-41D9-B957-94DB06E5487A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58DF-7B2D-4DD3-AAA3-69EDD704653A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C456-20F7-4DAA-AFF1-942CA8F38898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A6B1-4B83-406F-A0DE-3D9F8469C304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C045-79DA-4A09-8C5B-FDD1D4D92DA8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CA9B-FDC0-498D-83E0-8D6B5CF90F62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54F6-1307-409D-994A-84BBC810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4AFB-A77D-42E9-BF7D-3BBADE19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F58E-68DB-4DAA-AAD7-C44A95D8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866-98BF-4572-8441-AACE17FB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18B7-A4E1-4D32-B05F-2A49ACDD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615F-700A-45FA-BF2B-70F53980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1E8B-2F29-495A-BDC2-D13E2D49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992F-ED61-4137-AE94-9FB2C913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0F1D-038B-467F-AEB1-22AEAF92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3E96-8E4B-435C-89E9-B6B4E7C0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B1AD-BC6A-41D4-AC25-A9B6ACE8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803F-60B5-4F8B-AEF6-6FE982B5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374C-2665-4BAE-9469-0A55F32A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68EE-804E-4B77-A1F5-0192713F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411E-3AB0-4BA6-91CD-0F904CAA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D67F-8351-4FB2-8554-247CEBD3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25D6-CE3D-4299-B040-C19F0669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990A-2BBF-472F-A745-346852F5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FD67-FFDA-4E4C-80C4-7CD34D74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FB6-B107-478C-9906-06091F66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4CB-2B25-42AF-A01D-4BE0572C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4FB3-4A85-4126-86D1-D7296993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B15A-8BE8-452D-8AF4-42FBD6BC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1F9-8BF7-49E0-9D18-9EE835C3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F9B0-1615-4EF3-A4A6-84B4FE0926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B499-AC26-4730-AC95-8E7E687D598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image" Target="../media/image26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95680" y="-360"/>
            <a:ext cx="46483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s vacaciones a México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0" y="320040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Caley Hennesse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Picture 4" descr="mexicofan (1)"/>
          <p:cNvPicPr/>
          <p:nvPr/>
        </p:nvPicPr>
        <p:blipFill>
          <a:blip r:embed="rId1"/>
          <a:stretch/>
        </p:blipFill>
        <p:spPr>
          <a:xfrm>
            <a:off x="0" y="0"/>
            <a:ext cx="4495680" cy="3187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beach 1"/>
          <p:cNvPicPr/>
          <p:nvPr/>
        </p:nvPicPr>
        <p:blipFill>
          <a:blip r:embed="rId2"/>
          <a:stretch/>
        </p:blipFill>
        <p:spPr>
          <a:xfrm>
            <a:off x="0" y="4191120"/>
            <a:ext cx="3276720" cy="26668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download"/>
          <p:cNvPicPr/>
          <p:nvPr/>
        </p:nvPicPr>
        <p:blipFill>
          <a:blip r:embed="rId3"/>
          <a:stretch/>
        </p:blipFill>
        <p:spPr>
          <a:xfrm>
            <a:off x="4419720" y="3657600"/>
            <a:ext cx="3962160" cy="2637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352680" y="228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Balnario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Querida Ofek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  <a:ea typeface="Arial"/>
              </a:rPr>
              <a:t>¡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la! Hace mucho bien tiempo. Hoy lleg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  <a:ea typeface="Arial"/>
              </a:rPr>
              <a:t>è Gran Melia Cancun. Dia una lleva Cancun Dolphin Swim. Manana, voy a la playa. Yo trajo tres traje de bano, camisetas y pantalone cortos.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  <a:ea typeface="Arial"/>
              </a:rPr>
              <a:t>Un Abrazo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  <a:ea typeface="Arial"/>
              </a:rPr>
              <a:t>Caley Hennesse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Picture 4" descr="hotel"/>
          <p:cNvPicPr/>
          <p:nvPr/>
        </p:nvPicPr>
        <p:blipFill>
          <a:blip r:embed="rId1"/>
          <a:stretch/>
        </p:blipFill>
        <p:spPr>
          <a:xfrm>
            <a:off x="0" y="0"/>
            <a:ext cx="3200400" cy="2203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swim with dolphins"/>
          <p:cNvPicPr/>
          <p:nvPr/>
        </p:nvPicPr>
        <p:blipFill>
          <a:blip r:embed="rId2"/>
          <a:stretch/>
        </p:blipFill>
        <p:spPr>
          <a:xfrm>
            <a:off x="5486400" y="502920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Playa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Querida Emily Susan Tish Lange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la. Hace buen tiempa en la playa. Hace sol. Yo fui nadé en la mar. Fui el surfing y parasailing. Olas no prequenas. Olas grandes. Yo no fui buecea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n Abrazo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aley Hennesse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Picture 4" descr="beach"/>
          <p:cNvPicPr/>
          <p:nvPr/>
        </p:nvPicPr>
        <p:blipFill>
          <a:blip r:embed="rId1"/>
          <a:stretch/>
        </p:blipFill>
        <p:spPr>
          <a:xfrm>
            <a:off x="0" y="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parasailing"/>
          <p:cNvPicPr/>
          <p:nvPr/>
        </p:nvPicPr>
        <p:blipFill>
          <a:blip r:embed="rId2"/>
          <a:stretch/>
        </p:blipFill>
        <p:spPr>
          <a:xfrm>
            <a:off x="5638680" y="4632480"/>
            <a:ext cx="3505320" cy="2225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895480" y="152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Restaurant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Querida Ofek,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la. Hace mal tiempo. Yo fui a Restaurante Los Danzantes. Es muy bonita y </a:t>
            </a: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delicioso. Yo compro tacos, buritos, casadias, nachos y leche. Me guesta la restaurante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Un Abrazo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Caley Hennessey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4" descr="a rest"/>
          <p:cNvPicPr/>
          <p:nvPr/>
        </p:nvPicPr>
        <p:blipFill>
          <a:blip r:embed="rId1"/>
          <a:stretch/>
        </p:blipFill>
        <p:spPr>
          <a:xfrm>
            <a:off x="5486400" y="4686480"/>
            <a:ext cx="3276720" cy="2171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rest"/>
          <p:cNvPicPr/>
          <p:nvPr/>
        </p:nvPicPr>
        <p:blipFill>
          <a:blip r:embed="rId2"/>
          <a:stretch/>
        </p:blipFill>
        <p:spPr>
          <a:xfrm>
            <a:off x="0" y="0"/>
            <a:ext cx="259092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68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68" fill="hold"/>
                                        <p:tgtEl>
                                          <p:spTgt spid="3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68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35268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s Tiendas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Querida Emily Susan Tish Lange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la. Hace mal tiempo. Hoy fui a las tiendas. Compro las gafas de sol y toalla. Yo tiena viente dolares.  Fui a Walmart en Mexico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n Abrazo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aley Hennesse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Picture 4" descr="walmart"/>
          <p:cNvPicPr/>
          <p:nvPr/>
        </p:nvPicPr>
        <p:blipFill>
          <a:blip r:embed="rId1"/>
          <a:stretch/>
        </p:blipFill>
        <p:spPr>
          <a:xfrm>
            <a:off x="5029200" y="4419720"/>
            <a:ext cx="3886200" cy="2438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store"/>
          <p:cNvPicPr/>
          <p:nvPr/>
        </p:nvPicPr>
        <p:blipFill>
          <a:blip r:embed="rId2"/>
          <a:stretch/>
        </p:blipFill>
        <p:spPr>
          <a:xfrm>
            <a:off x="228600" y="152280"/>
            <a:ext cx="274176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98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98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98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9880" y="152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Teni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Querida Ofek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la. Hace buen tiempo. Fui ir jugar tenis. Jugue con mi amigo Pablo. Lo conoci en la playa. Soy mal en el tenis. ¡Hasta leugo!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Un Abrazo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ley Hennesse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Picture 4" descr="tennnnis"/>
          <p:cNvPicPr/>
          <p:nvPr/>
        </p:nvPicPr>
        <p:blipFill>
          <a:blip r:embed="rId1"/>
          <a:stretch/>
        </p:blipFill>
        <p:spPr>
          <a:xfrm>
            <a:off x="152280" y="0"/>
            <a:ext cx="3048120" cy="2057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tenis"/>
          <p:cNvPicPr/>
          <p:nvPr/>
        </p:nvPicPr>
        <p:blipFill>
          <a:blip r:embed="rId2"/>
          <a:stretch/>
        </p:blipFill>
        <p:spPr>
          <a:xfrm>
            <a:off x="4572000" y="4419720"/>
            <a:ext cx="3429000" cy="2209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-3208320"/>
            <a:ext cx="609480" cy="74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76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Arial Black"/>
              </a:rPr>
              <a:t>The End!</a:t>
            </a: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4" name="Picture 12" descr="Copy of me3xico"/>
          <p:cNvPicPr/>
          <p:nvPr/>
        </p:nvPicPr>
        <p:blipFill>
          <a:blip r:embed="rId1"/>
          <a:stretch/>
        </p:blipFill>
        <p:spPr>
          <a:xfrm>
            <a:off x="0" y="0"/>
            <a:ext cx="2895480" cy="2057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3" descr="Copy of mexico"/>
          <p:cNvPicPr/>
          <p:nvPr/>
        </p:nvPicPr>
        <p:blipFill>
          <a:blip r:embed="rId2"/>
          <a:stretch/>
        </p:blipFill>
        <p:spPr>
          <a:xfrm>
            <a:off x="2895480" y="0"/>
            <a:ext cx="2895840" cy="2057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4" descr="Copy of mexico"/>
          <p:cNvPicPr/>
          <p:nvPr/>
        </p:nvPicPr>
        <p:blipFill>
          <a:blip r:embed="rId3"/>
          <a:stretch/>
        </p:blipFill>
        <p:spPr>
          <a:xfrm>
            <a:off x="7543800" y="0"/>
            <a:ext cx="1600200" cy="2971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5" descr="Copy of mexxxx"/>
          <p:cNvPicPr/>
          <p:nvPr/>
        </p:nvPicPr>
        <p:blipFill>
          <a:blip r:embed="rId4"/>
          <a:stretch/>
        </p:blipFill>
        <p:spPr>
          <a:xfrm>
            <a:off x="0" y="3048120"/>
            <a:ext cx="2685960" cy="19047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6" descr="Copy of mexiiiiiiico"/>
          <p:cNvPicPr/>
          <p:nvPr/>
        </p:nvPicPr>
        <p:blipFill>
          <a:blip r:embed="rId5"/>
          <a:stretch/>
        </p:blipFill>
        <p:spPr>
          <a:xfrm>
            <a:off x="5791320" y="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7" descr="Copy of mexxico"/>
          <p:cNvPicPr/>
          <p:nvPr/>
        </p:nvPicPr>
        <p:blipFill>
          <a:blip r:embed="rId6"/>
          <a:stretch/>
        </p:blipFill>
        <p:spPr>
          <a:xfrm>
            <a:off x="2666880" y="2971800"/>
            <a:ext cx="2743200" cy="190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8" descr="mexxxxico"/>
          <p:cNvPicPr/>
          <p:nvPr/>
        </p:nvPicPr>
        <p:blipFill>
          <a:blip r:embed="rId7"/>
          <a:stretch/>
        </p:blipFill>
        <p:spPr>
          <a:xfrm>
            <a:off x="5410080" y="2971800"/>
            <a:ext cx="2133720" cy="1924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9" descr="Copy of mexiiiico"/>
          <p:cNvPicPr/>
          <p:nvPr/>
        </p:nvPicPr>
        <p:blipFill>
          <a:blip r:embed="rId8"/>
          <a:stretch/>
        </p:blipFill>
        <p:spPr>
          <a:xfrm>
            <a:off x="7543800" y="297180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0" descr="mexican"/>
          <p:cNvPicPr/>
          <p:nvPr/>
        </p:nvPicPr>
        <p:blipFill>
          <a:blip r:embed="rId9"/>
          <a:stretch/>
        </p:blipFill>
        <p:spPr>
          <a:xfrm>
            <a:off x="0" y="4876920"/>
            <a:ext cx="2400480" cy="2133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1" descr="meexx"/>
          <p:cNvPicPr/>
          <p:nvPr/>
        </p:nvPicPr>
        <p:blipFill>
          <a:blip r:embed="rId10"/>
          <a:stretch/>
        </p:blipFill>
        <p:spPr>
          <a:xfrm>
            <a:off x="2362320" y="4876920"/>
            <a:ext cx="2581200" cy="21333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2" descr="mexico"/>
          <p:cNvPicPr/>
          <p:nvPr/>
        </p:nvPicPr>
        <p:blipFill>
          <a:blip r:embed="rId11"/>
          <a:stretch/>
        </p:blipFill>
        <p:spPr>
          <a:xfrm>
            <a:off x="4952880" y="4876920"/>
            <a:ext cx="1828800" cy="21333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3" descr="mexicooo"/>
          <p:cNvPicPr/>
          <p:nvPr/>
        </p:nvPicPr>
        <p:blipFill>
          <a:blip r:embed="rId12"/>
          <a:stretch/>
        </p:blipFill>
        <p:spPr>
          <a:xfrm>
            <a:off x="0" y="2057400"/>
            <a:ext cx="1828800" cy="990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4" descr="mexicoooo"/>
          <p:cNvPicPr/>
          <p:nvPr/>
        </p:nvPicPr>
        <p:blipFill>
          <a:blip r:embed="rId13"/>
          <a:stretch/>
        </p:blipFill>
        <p:spPr>
          <a:xfrm>
            <a:off x="6753240" y="4800600"/>
            <a:ext cx="2390760" cy="2209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5:46:47Z</dcterms:created>
  <dc:creator>hennesseycal</dc:creator>
  <dc:description/>
  <dc:language>en-US</dc:language>
  <cp:lastModifiedBy>Joseph F. Hennessey</cp:lastModifiedBy>
  <dcterms:modified xsi:type="dcterms:W3CDTF">2012-12-05T22:21:02Z</dcterms:modified>
  <cp:revision>18</cp:revision>
  <dc:subject/>
  <dc:title>Mis vacaciones a México</dc:title>
</cp:coreProperties>
</file>